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APARAT.WAV" ContentType="audio/x-wav"/>
  <Override PartName="/ppt/media/image6.png" ContentType="image/png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70F0-5D41-4EAD-A374-B516A7156CB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ZYKŁADOWY SCENARIUSZ LEK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878-D01C-457A-A11C-B8FA53B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A9D-B3F0-4CE6-8A4E-0868082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94-FECA-4265-B19C-CEE91E2A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819-7A30-489F-BA3F-A856E328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4A6-B837-41A0-AF59-CB72EA4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FA0-B99C-4D16-81AD-ABB3CD9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B19-1107-4C09-A499-4A696AD6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41C-C2A1-4199-BDC4-8805A81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40F-B39F-4461-A13F-7D0FC9BC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42C-C44E-4225-8E3A-15A770E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A86-DF37-4ABD-B406-5739A21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75A-7C58-4BAE-BCFF-CC09AEB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866-7B85-4F8B-B9F7-5D45D70E2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audio" Target="../media/APARAT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APARAT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audio" Target="../media/APARAT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acowała: mgr Danuta Pław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5" h="21600">
                <a:moveTo>
                  <a:pt x="11511" y="3794"/>
                </a:moveTo>
                <a:lnTo>
                  <a:pt x="25524" y="10800"/>
                </a:lnTo>
                <a:lnTo>
                  <a:pt x="11511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1" name="APARA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żeli dwie  przecinające  się proste tworz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ztery rów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ą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 każdy z  tych  kątów   nazywamy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ątem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prostym.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ąty pros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zyjęto oznaczać na rysunku małym łukiem z zaznaczoną wewnątrz niego krop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2590920"/>
          <a:ext cx="693432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69343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80880" y="3049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KĄT PROS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296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3880" y="1981080"/>
          <a:ext cx="6553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6553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66ff"/>
                </a:solidFill>
                <a:latin typeface="Times New Roman"/>
              </a:rPr>
              <a:t>KĄT  OS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2296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KĄT ROZWAR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3048120"/>
            <a:ext cx="4267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ąt BOC jest większy od kąta prostego   AOC  i nosi nazwę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ąta rozwarteg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286000"/>
          <a:ext cx="4267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4267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380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2296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KĄT  PEŁ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438280"/>
          <a:ext cx="380988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380988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6560" y="24382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miona ką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krywają si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     to kąt będąc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łą płaszczyzn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zywa się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ątem peł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KĄT PÓŁPEŁ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żeli ramiona kąta tworzą prostą, to kąt będąc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ółpłaszczyzn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zywam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ątem półpełn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8320" y="2057400"/>
          <a:ext cx="4114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114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2296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imes New Roman"/>
              </a:rPr>
              <a:t>KĄT ZEROW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658960" y="1981080"/>
          <a:ext cx="38242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8960" y="1981080"/>
                    <a:ext cx="38242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śl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miona kąta pokrywają si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 tworz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dną pół prost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aki kąt nazywać będziem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ątem zerowy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Times New Roman"/>
              </a:rPr>
              <a:t>INNE  KĄ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572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12193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7543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2296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962520" y="6400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WIG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2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KĄTY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IERZCHOŁKOW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wie  przecinające  się  prost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tworzą po dwie pary równych kątów. Każdą z tych par nazywamy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ątami  wierzchołkowym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KREŚLENIE: </a:t>
            </a:r>
            <a:r>
              <a:rPr b="0" lang="pl-PL" sz="1800" spc="-1" strike="noStrike">
                <a:solidFill>
                  <a:srgbClr val="ff0000"/>
                </a:solidFill>
                <a:latin typeface="Times New Roman"/>
              </a:rPr>
              <a:t>Dwa kąty wypukłe, w których ramiona jednego z nich są przedłużeniem ramion drugiego nazywamy kątami wierzchołkowym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ątami  wierzchołkowym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są: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OB i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COD oraz 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AOC i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BOD, przy czym: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OB| =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|COD</a:t>
            </a:r>
            <a:r>
              <a:rPr b="0" lang="pl-PL" sz="1800" spc="-1" strike="noStrike">
                <a:solidFill>
                  <a:srgbClr val="000000"/>
                </a:solidFill>
                <a:latin typeface="WP MathA"/>
                <a:ea typeface="Times New Roman"/>
              </a:rPr>
              <a:t>|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AOC| =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∢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BOD|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4495680"/>
          <a:ext cx="5257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495680"/>
                    <a:ext cx="5257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08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Times New Roman"/>
              </a:rPr>
              <a:t>KĄTY   PRZYLEGŁE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2757600"/>
          <a:ext cx="426708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57600"/>
                    <a:ext cx="42670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a kąty, które mają jedno ramię wspólne, a pozostałe ramiona tworzą prostą nazywamy kątami przyległy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ąty ABD i CBD są kątami przyległy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ąty przyległe w sumie tworzą kąt półpeł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3808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153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KONIEC</a:t>
            </a:r>
            <a:br>
              <a:rPr sz="7200"/>
            </a:b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PREZENTACJI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1981080" y="57913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17290" y="7493"/>
                </a:moveTo>
                <a:lnTo>
                  <a:pt x="20798" y="7493"/>
                </a:lnTo>
                <a:lnTo>
                  <a:pt x="20798" y="12828"/>
                </a:lnTo>
                <a:cubicBezTo>
                  <a:pt x="20798" y="13751"/>
                  <a:pt x="21599" y="14482"/>
                  <a:pt x="22634" y="14482"/>
                </a:cubicBezTo>
                <a:lnTo>
                  <a:pt x="24297" y="14482"/>
                </a:lnTo>
                <a:cubicBezTo>
                  <a:pt x="25333" y="14482"/>
                  <a:pt x="26133" y="13751"/>
                  <a:pt x="26133" y="12828"/>
                </a:cubicBezTo>
                <a:lnTo>
                  <a:pt x="26133" y="7493"/>
                </a:lnTo>
                <a:lnTo>
                  <a:pt x="24297" y="7493"/>
                </a:lnTo>
                <a:lnTo>
                  <a:pt x="27804" y="3985"/>
                </a:lnTo>
                <a:lnTo>
                  <a:pt x="31477" y="7493"/>
                </a:lnTo>
                <a:lnTo>
                  <a:pt x="29641" y="7493"/>
                </a:lnTo>
                <a:lnTo>
                  <a:pt x="29641" y="12828"/>
                </a:lnTo>
                <a:cubicBezTo>
                  <a:pt x="29641" y="15596"/>
                  <a:pt x="27065" y="18155"/>
                  <a:pt x="24297" y="18155"/>
                </a:cubicBezTo>
                <a:lnTo>
                  <a:pt x="22634" y="18155"/>
                </a:lnTo>
                <a:cubicBezTo>
                  <a:pt x="19867" y="18155"/>
                  <a:pt x="17290" y="15596"/>
                  <a:pt x="1729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6781680" y="57913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5638680"/>
            <a:ext cx="2133720" cy="9144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ZYKŁADOW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ENARIUSZ LEK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1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57200"/>
            <a:ext cx="5791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ff"/>
                </a:solidFill>
                <a:latin typeface="Times New Roman"/>
              </a:rPr>
              <a:t>  </a:t>
            </a:r>
            <a:br>
              <a:rPr sz="5400"/>
            </a:br>
            <a:r>
              <a:rPr b="1" lang="en-US" sz="5400" spc="-1" strike="noStrike">
                <a:solidFill>
                  <a:srgbClr val="9966ff"/>
                </a:solidFill>
                <a:latin typeface="Times New Roman"/>
              </a:rPr>
              <a:t>NAWIGACJ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 flipV="1">
            <a:off x="1523880" y="335196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PRO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 flipV="1">
            <a:off x="1523880" y="4114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ROZW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1523880" y="3733920"/>
            <a:ext cx="1600200" cy="30456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13381" h="21600">
                <a:moveTo>
                  <a:pt x="0" y="0"/>
                </a:moveTo>
                <a:lnTo>
                  <a:pt x="113381" y="0"/>
                </a:lnTo>
                <a:lnTo>
                  <a:pt x="113381" y="21600"/>
                </a:lnTo>
                <a:lnTo>
                  <a:pt x="0" y="21600"/>
                </a:lnTo>
                <a:close/>
              </a:path>
              <a:path fill="lightenLess" w="113381" h="21600">
                <a:moveTo>
                  <a:pt x="0" y="0"/>
                </a:moveTo>
                <a:lnTo>
                  <a:pt x="113381" y="0"/>
                </a:lnTo>
                <a:lnTo>
                  <a:pt x="111981" y="1400"/>
                </a:lnTo>
                <a:lnTo>
                  <a:pt x="1400" y="1400"/>
                </a:lnTo>
                <a:close/>
              </a:path>
              <a:path fill="darken" w="113381" h="21600">
                <a:moveTo>
                  <a:pt x="113381" y="0"/>
                </a:moveTo>
                <a:lnTo>
                  <a:pt x="113381" y="21600"/>
                </a:lnTo>
                <a:lnTo>
                  <a:pt x="111981" y="20200"/>
                </a:lnTo>
                <a:lnTo>
                  <a:pt x="111981" y="1400"/>
                </a:lnTo>
                <a:close/>
              </a:path>
              <a:path fill="darkenLess" w="113381" h="21600">
                <a:moveTo>
                  <a:pt x="113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81" y="20200"/>
                </a:lnTo>
                <a:close/>
              </a:path>
              <a:path fill="lighten" w="113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O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3581280" y="33526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PEŁ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81280" y="41140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ZER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733920"/>
            <a:ext cx="1600200" cy="30456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13381" h="21600">
                <a:moveTo>
                  <a:pt x="0" y="0"/>
                </a:moveTo>
                <a:lnTo>
                  <a:pt x="113381" y="0"/>
                </a:lnTo>
                <a:lnTo>
                  <a:pt x="113381" y="21600"/>
                </a:lnTo>
                <a:lnTo>
                  <a:pt x="0" y="21600"/>
                </a:lnTo>
                <a:close/>
              </a:path>
              <a:path fill="lightenLess" w="113381" h="21600">
                <a:moveTo>
                  <a:pt x="0" y="0"/>
                </a:moveTo>
                <a:lnTo>
                  <a:pt x="113381" y="0"/>
                </a:lnTo>
                <a:lnTo>
                  <a:pt x="111981" y="1400"/>
                </a:lnTo>
                <a:lnTo>
                  <a:pt x="1400" y="1400"/>
                </a:lnTo>
                <a:close/>
              </a:path>
              <a:path fill="darken" w="113381" h="21600">
                <a:moveTo>
                  <a:pt x="113381" y="0"/>
                </a:moveTo>
                <a:lnTo>
                  <a:pt x="113381" y="21600"/>
                </a:lnTo>
                <a:lnTo>
                  <a:pt x="111981" y="20200"/>
                </a:lnTo>
                <a:lnTo>
                  <a:pt x="111981" y="1400"/>
                </a:lnTo>
                <a:close/>
              </a:path>
              <a:path fill="darkenLess" w="113381" h="21600">
                <a:moveTo>
                  <a:pt x="113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81" y="20200"/>
                </a:lnTo>
                <a:close/>
              </a:path>
              <a:path fill="lighten" w="113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 PÓŁPEŁ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 KĄ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193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Ą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051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JĘCIE KĄ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3623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Y WYPUKŁ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KLĘSŁ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895480"/>
            <a:ext cx="1447920" cy="38124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78" h="21600">
                <a:moveTo>
                  <a:pt x="0" y="0"/>
                </a:moveTo>
                <a:lnTo>
                  <a:pt x="81978" y="0"/>
                </a:lnTo>
                <a:lnTo>
                  <a:pt x="81978" y="21600"/>
                </a:lnTo>
                <a:lnTo>
                  <a:pt x="0" y="21600"/>
                </a:lnTo>
                <a:close/>
              </a:path>
              <a:path fill="lightenLess" w="81978" h="21600">
                <a:moveTo>
                  <a:pt x="0" y="0"/>
                </a:moveTo>
                <a:lnTo>
                  <a:pt x="81978" y="0"/>
                </a:lnTo>
                <a:lnTo>
                  <a:pt x="80578" y="1400"/>
                </a:lnTo>
                <a:lnTo>
                  <a:pt x="1400" y="1400"/>
                </a:lnTo>
                <a:close/>
              </a:path>
              <a:path fill="darken" w="81978" h="21600">
                <a:moveTo>
                  <a:pt x="81978" y="0"/>
                </a:moveTo>
                <a:lnTo>
                  <a:pt x="81978" y="21600"/>
                </a:lnTo>
                <a:lnTo>
                  <a:pt x="80578" y="20200"/>
                </a:lnTo>
                <a:lnTo>
                  <a:pt x="80578" y="1400"/>
                </a:lnTo>
                <a:close/>
              </a:path>
              <a:path fill="darkenLess" w="81978" h="21600">
                <a:moveTo>
                  <a:pt x="81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78" y="20200"/>
                </a:lnTo>
                <a:close/>
              </a:path>
              <a:path fill="lighten" w="81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ZAJE KĄTÓ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029200"/>
            <a:ext cx="2286000" cy="304920"/>
          </a:xfrm>
          <a:custGeom>
            <a:avLst/>
            <a:gdLst>
              <a:gd name="textAreaLeft" fmla="*/ 19440 w 2286000"/>
              <a:gd name="textAreaRight" fmla="*/ 2266560 w 2286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61771" h="21600">
                <a:moveTo>
                  <a:pt x="0" y="0"/>
                </a:moveTo>
                <a:lnTo>
                  <a:pt x="161771" y="0"/>
                </a:lnTo>
                <a:lnTo>
                  <a:pt x="161771" y="21600"/>
                </a:lnTo>
                <a:lnTo>
                  <a:pt x="0" y="21600"/>
                </a:lnTo>
                <a:close/>
              </a:path>
              <a:path fill="lightenLess" w="161771" h="21600">
                <a:moveTo>
                  <a:pt x="0" y="0"/>
                </a:moveTo>
                <a:lnTo>
                  <a:pt x="161771" y="0"/>
                </a:lnTo>
                <a:lnTo>
                  <a:pt x="160371" y="1400"/>
                </a:lnTo>
                <a:lnTo>
                  <a:pt x="1400" y="1400"/>
                </a:lnTo>
                <a:close/>
              </a:path>
              <a:path fill="darken" w="161771" h="21600">
                <a:moveTo>
                  <a:pt x="161771" y="0"/>
                </a:moveTo>
                <a:lnTo>
                  <a:pt x="161771" y="21600"/>
                </a:lnTo>
                <a:lnTo>
                  <a:pt x="160371" y="20200"/>
                </a:lnTo>
                <a:lnTo>
                  <a:pt x="160371" y="1400"/>
                </a:lnTo>
                <a:close/>
              </a:path>
              <a:path fill="darkenLess" w="161771" h="21600">
                <a:moveTo>
                  <a:pt x="161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71" y="20200"/>
                </a:lnTo>
                <a:close/>
              </a:path>
              <a:path fill="lighten" w="161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Y WIERZCHOŁK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5486400"/>
            <a:ext cx="2286000" cy="304920"/>
          </a:xfrm>
          <a:custGeom>
            <a:avLst/>
            <a:gdLst>
              <a:gd name="textAreaLeft" fmla="*/ 19440 w 2286000"/>
              <a:gd name="textAreaRight" fmla="*/ 2266560 w 2286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61771" h="21600">
                <a:moveTo>
                  <a:pt x="0" y="0"/>
                </a:moveTo>
                <a:lnTo>
                  <a:pt x="161771" y="0"/>
                </a:lnTo>
                <a:lnTo>
                  <a:pt x="161771" y="21600"/>
                </a:lnTo>
                <a:lnTo>
                  <a:pt x="0" y="21600"/>
                </a:lnTo>
                <a:close/>
              </a:path>
              <a:path fill="lightenLess" w="161771" h="21600">
                <a:moveTo>
                  <a:pt x="0" y="0"/>
                </a:moveTo>
                <a:lnTo>
                  <a:pt x="161771" y="0"/>
                </a:lnTo>
                <a:lnTo>
                  <a:pt x="160371" y="1400"/>
                </a:lnTo>
                <a:lnTo>
                  <a:pt x="1400" y="1400"/>
                </a:lnTo>
                <a:close/>
              </a:path>
              <a:path fill="darken" w="161771" h="21600">
                <a:moveTo>
                  <a:pt x="161771" y="0"/>
                </a:moveTo>
                <a:lnTo>
                  <a:pt x="161771" y="21600"/>
                </a:lnTo>
                <a:lnTo>
                  <a:pt x="160371" y="20200"/>
                </a:lnTo>
                <a:lnTo>
                  <a:pt x="160371" y="1400"/>
                </a:lnTo>
                <a:close/>
              </a:path>
              <a:path fill="darkenLess" w="161771" h="21600">
                <a:moveTo>
                  <a:pt x="161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371" y="20200"/>
                </a:lnTo>
                <a:close/>
              </a:path>
              <a:path fill="lighten" w="161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ĄTY PRZYLEGŁ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914400" y="6019920"/>
            <a:ext cx="1676520" cy="380880"/>
          </a:xfrm>
          <a:custGeom>
            <a:avLst/>
            <a:gdLst>
              <a:gd name="textAreaLeft" fmla="*/ 24480 w 1676520"/>
              <a:gd name="textAreaRight" fmla="*/ 1652040 w 1676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3607" y="1400"/>
                </a:lnTo>
                <a:lnTo>
                  <a:pt x="1400" y="1400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3607" y="20200"/>
                </a:lnTo>
                <a:lnTo>
                  <a:pt x="93607" y="1400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607" y="20200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6019920"/>
            <a:ext cx="1752480" cy="4572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ZYKŁAD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ENARIUSZ LEK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5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POJĘCIE KĄ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wie półproste o wspólnym początku dzielą płaszczyznę na dwie części, z których każda nazywa się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ą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ys.1a, 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3733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33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24280" y="3733920"/>
          <a:ext cx="3810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733920"/>
                    <a:ext cx="381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04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5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ółproste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(rys.1b) nazywamy  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ramionami ką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 Należą one zarówno do jednego, jak i drugiego kąta. Punkt 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nazywamy  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wierzchołkiem kąt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876920" y="2666880"/>
          <a:ext cx="37335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37335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3520" y="2666880"/>
          <a:ext cx="365760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666880"/>
                    <a:ext cx="36576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3808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5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żdy z dwóch zakreślonych obszarów płaszczyzny (rys. 2) bez półprostyc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zywam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nętrzem ką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la uniknięcia nieporozumień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który kąt chodzi, przyjęto łączyć małym łukiem ramiona tego kąta (rys. 1; 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3809880"/>
            <a:ext cx="6629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ąt przedstawiony na rys. 2a  nazywam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ątem wypukły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omiast na rys. 2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ątem wklęsł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3808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2296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1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imes New Roman"/>
              </a:rPr>
              <a:t>KĄT  WYPUKŁ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38080" y="1981080"/>
          <a:ext cx="76201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62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572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296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ff"/>
                </a:solidFill>
                <a:latin typeface="Times New Roman"/>
              </a:rPr>
              <a:t>KĄT  WKLĘSŁ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2057400"/>
          <a:ext cx="8001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5335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30592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3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ez 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kąt wypukły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ozumieć będziemy kąt,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którym każdy odcinek o końcach należących do wnętrza tego kąta (np.: KL), zawiera się całkowicie w tym kącie (rys. 2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581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ątem wklęsły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zywamy kąt, w którym można znaleźć choć jeden odcinek o końcach należących do wnętrza tego kąta taki, że część tego odcinka nie zawiera się we wnętrzu tego kąta (np.: MN - rys. 2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609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1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RODZAJE</a:t>
            </a:r>
            <a:br>
              <a:rPr sz="8800"/>
            </a:b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KĄTÓ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5335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2296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7543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11430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  <p:sndAc>
      <p:stSnd>
        <p:snd r:embed="rId1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20:07:14Z</dcterms:created>
  <dc:creator>Pentium III</dc:creator>
  <dc:description/>
  <dc:language>en-US</dc:language>
  <cp:lastModifiedBy>WOM Gorzów Wlkp.</cp:lastModifiedBy>
  <dcterms:modified xsi:type="dcterms:W3CDTF">2003-04-11T05:12:05Z</dcterms:modified>
  <cp:revision>30</cp:revision>
  <dc:subject/>
  <dc:title>KĄT PÓŁPEŁNY</dc:title>
</cp:coreProperties>
</file>